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86C-82C7-4704-BD78-6E96F83E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250-2393-4688-8697-6AD742A1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909-18BE-48DE-B2AE-8E5226A4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5B9-B570-4EA9-A693-B26D4D2A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7F7-CDA9-43EA-8153-5D616D3C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616-15B4-4ACD-90E1-ECF289FA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05F-8CC6-41AE-9134-8B825C44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807-16F6-414C-AC1E-FB8581F9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5FA-8018-4E3A-9CF0-D58C8E57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5BC-303F-4913-8C74-5EB45BBF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59B-770B-4304-AB83-537C122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A35-AE9B-4E3D-8867-36C2A0FD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AE66-A877-4BE4-8A20-8325A401A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 Augu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e B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9046"/>
            </a:gs>
            <a:gs pos="50000">
              <a:srgbClr val="cc6600"/>
            </a:gs>
            <a:gs pos="100000">
              <a:srgbClr val="da9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rtification i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adation of 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rid and d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humid are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primarily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soil can be blown or washed away, leaving infertile soil in it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effect areas such as prairies, savannas, rainforests, and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InsertImage"/>
          <p:cNvPicPr/>
          <p:nvPr/>
        </p:nvPicPr>
        <p:blipFill>
          <a:blip r:embed="rId1"/>
          <a:stretch/>
        </p:blipFill>
        <p:spPr>
          <a:xfrm>
            <a:off x="4343400" y="1676520"/>
            <a:ext cx="4800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Desertification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85840" y="8841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u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that receive little rainfall are subject to dry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graz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stock are allowed to feed freely on vegetation without recovery periods for the plants to grow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acts the soil – doesn’t allow rain to infil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estation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ting down trees allows sun to dry the s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ook1_overgrazing2"/>
          <p:cNvPicPr/>
          <p:nvPr/>
        </p:nvPicPr>
        <p:blipFill>
          <a:blip r:embed="rId1"/>
          <a:stretch/>
        </p:blipFill>
        <p:spPr>
          <a:xfrm>
            <a:off x="152280" y="1752480"/>
            <a:ext cx="40388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effects of Desertification?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s of Desertification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ss of vegetation. Which will make the dry lands vulnerable for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ops s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people for example the dust storms will cause health problems such as 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starvation for animals/plants and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imate change caused lakes and rivers to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was harder to farm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stock died of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haran Africans suffered from hunger and became completely dependant on international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andstorm-sahara-desert"/>
          <p:cNvPicPr/>
          <p:nvPr/>
        </p:nvPicPr>
        <p:blipFill>
          <a:blip r:embed="rId1"/>
          <a:stretch/>
        </p:blipFill>
        <p:spPr>
          <a:xfrm>
            <a:off x="6477120" y="49528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ust Bowl(1930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use of the Dust Bowl was poor farming methods, cultivation and lack of crop r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ought occurred and killed most crops – soil became loose and blew away in wind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d sand storms and shortage of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429160" y="4851360"/>
            <a:ext cx="3733920" cy="20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19080" y="439416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ns, Jocelyn. </a:t>
            </a:r>
            <a:r>
              <a:rPr b="0" lang="ja-JP" sz="2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tification.</a:t>
            </a:r>
            <a:r>
              <a:rPr b="0" lang="ja-JP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viro Fa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 Feb. 2001 27 Feb. 2009 &lt;http://www.botany.uwc.ac.za/envFacts/facts/desertification.htm&gt;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nell, Marjorie. "Desertification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le Encyclopedia of 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d. K. Lee Lerner and Brenda Wilmoth Lerner. 4th ed. Detroit: Gale Group, 2008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 Resource Center - G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ale. Stroudsburg High School. 27 Feb.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"Scientific Facts on Desertification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een Fa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2005. Millenium Ecosystem Assesment. 27 Feb. 2009 &lt;http://www.greenfacts.org/en/desertification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3:22:37Z</dcterms:created>
  <dc:creator>sasd</dc:creator>
  <dc:description/>
  <dc:language>en-US</dc:language>
  <cp:lastModifiedBy>dhakim</cp:lastModifiedBy>
  <dcterms:modified xsi:type="dcterms:W3CDTF">2012-03-28T13:20:34Z</dcterms:modified>
  <cp:revision>9</cp:revision>
  <dc:subject/>
  <dc:title>Desertification</dc:title>
</cp:coreProperties>
</file>